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8FB08-459A-4050-9038-8EA7CFA62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45ED2-2956-4B64-B68C-C0A39C8EA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47491-CEB2-486A-9BDB-DDC574807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D3DA6-0255-451F-808D-D7157E1E7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B4893-AADF-4626-A008-F25094DD1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136CC-3E5E-4A31-A1F9-E8E6243F2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BFBA1-327E-448A-84AB-485135BAB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3DC9E-CC3F-4D0D-BF1F-EC8030954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FDF66-5765-44F3-804F-AD2581576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E0E9E-B61B-42AE-8E47-9BB45E621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A6D44-45DB-42A8-B100-A8A999D1E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56F70-AC4B-426E-8004-6F168B53E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D36A-70C5-487A-B81F-1DA70C9F27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Picture 10" descr=""/>
          <p:cNvPicPr/>
          <p:nvPr/>
        </p:nvPicPr>
        <p:blipFill>
          <a:blip r:embed="rId1">
            <a:grayscl/>
          </a:blip>
          <a:stretch/>
        </p:blipFill>
        <p:spPr>
          <a:xfrm>
            <a:off x="5148360" y="981000"/>
            <a:ext cx="1439640" cy="1346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9T11:01:35Z</dcterms:modified>
  <cp:revision>46</cp:revision>
  <dc:subject/>
  <dc:title>SALARIUL</dc:title>
</cp:coreProperties>
</file>